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8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26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7.gif" ContentType="image/gif"/>
  <Override PartName="/ppt/media/image29.jpeg" ContentType="image/jpeg"/>
  <Override PartName="/ppt/media/image34.jpeg" ContentType="image/jpeg"/>
  <Override PartName="/ppt/media/image18.png" ContentType="image/png"/>
  <Override PartName="/ppt/media/image33.png" ContentType="image/png"/>
  <Override PartName="/ppt/media/image3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22.jpeg" ContentType="image/jpeg"/>
  <Override PartName="/ppt/media/image9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109-CB7A-4316-AFCE-8D42D24F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354-63EB-451C-BC67-D1A6FE0A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9E649-8BBB-45A9-830C-5B8CE0FD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0EAB4-6D4D-47C6-97F5-2A8CB2C8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1FE33-4AFC-48BA-9843-7AF5C2E2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1EDF1-D542-42D4-A623-7843BEBB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6AC12-826D-42AA-B488-F5190041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AD42A-F613-4DF5-A1E5-8A6B8EAD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2031A-46C3-4178-879D-92EF7B88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F2BD4-AA57-44AB-9987-81E76EE0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00928-2E9F-49AB-B906-6963D7BA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8B61E-A5D6-4EAD-9A82-BC90CF64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763-BBA0-4C14-8B14-292DAD7B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A8807-260A-4F8B-8461-84535CBA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59081-8550-40B9-9C3F-DD7619EC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99976-380B-4F94-A8FC-A9C35E07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4A87C-F7CF-46A9-9218-850F485D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E0438-F9FF-4DBC-A9A3-043C130F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5763C-057C-42A3-B5E1-B282FBB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AD7BF-A78F-4541-9B01-5052F81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9969F-81A6-4812-B925-AB1150C5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09B5E-1925-4584-AEE5-BBE592A8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0CB9D-214F-496C-83D5-4BE5A3ED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892-C00F-4F9B-8EB2-74ADC288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6A50B-87F8-4AAA-BC76-19D69F1A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47D24-4C8A-4600-874A-F6D5E95E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55D04-CCBB-41D5-BD63-EF470A52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E112B-70E1-470E-9124-D23910B7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3D23C-51C3-4888-8FF4-3423FA0E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3F17F-37B9-49E2-8F0C-27A7B8DE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2CC2B-5088-4257-9ECB-51989FDA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9E44C-F3C6-4633-BD3F-C379E67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795A8-EDFA-444B-984A-51E2EF8A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EECFC-B574-4075-A175-C1D6C7EC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6035-E1AB-49A9-A7C3-2F74C26F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BF864-8EE2-4130-AEDD-F3214052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B66D1-EEC9-4D19-A716-FD9E21A1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7B9E7-BDB2-4892-AEB3-BD3D1FDF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F1B35-781B-4DF2-A7E6-8B6A2F88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E0432-BAAB-4E6A-A203-922E1920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E8F51-C8AF-4C70-8D37-D50D2F70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01063-9812-4338-8682-5DF89099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E1EC4-FD56-464C-968B-7C20C43C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F8CF2-FFF7-482A-BD11-5C84CBB8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CBA32-A9EB-4118-BF4F-D9D15FC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F701-6D23-402E-807E-950425A3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879D7-EBDB-47BD-96C7-1F1A192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B5DD0-A6EB-471D-B074-8267A17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B1DC9-843E-4EC4-8731-53A7C14A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3023A-1224-4C42-B8E4-500DE3E5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FBA8A-605E-48DE-887E-0EE3289C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1D9AA-C9D0-4020-A53B-EC8D3AA2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F676E-2A85-43AE-8864-D229C25F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C6280-80BE-4DB1-933A-8649C521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B1710-28CC-46A2-94B4-1A02836E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6BC06-4F80-46A6-9032-737C2421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C326-A219-4C71-8F1B-21DA4565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0DBFF-F61E-424F-B22C-37C206A9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DBA2E-10F6-4E97-AC2C-719901CB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C0F40-1722-462A-B9DE-7588E541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2749F-9264-4E2E-944B-B803D57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50BE4-C7ED-4D06-B79B-976FD5C7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91F4F-4327-4CD5-8A74-9DEF6F28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0CEE5-2591-4B1F-B798-D18DD056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CEEF1-C941-46C8-BC94-B84852D5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97ED3-28AD-4DF0-A7E1-4DF8F181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281EA-B004-44ED-A2D0-D2F89950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3553-E7A4-4889-B7C8-FBC8E294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C79B4-0048-4149-BC43-FB097CF1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A386E-5594-4F27-9DB1-B9160615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DBEBE-7BDB-4405-AD4E-AA0CE61F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1374B-F091-4872-BCEA-396BEA4B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4B22C-67D6-4429-8603-2EAB3D3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BC952-A537-4F57-94D7-AD4678A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114C1-D77D-4F01-A28D-836F3CDA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7E65A-0601-4A9C-A1E2-95456961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6D507-1801-49E1-A47D-EB22AA7B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3A438-BAA7-487B-B0C3-7E0D1256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2C71-FE1A-4A88-AF03-66ACE96A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2CF74-F296-41FB-8346-4F7632FA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C4388-635B-4215-A208-E459AA06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86E31-34EF-4A5A-BF0C-EA30FF7F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3A98A-00CF-4AE4-A345-7914BC7E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D46D3-B539-4CDB-B4B7-94B5C192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AE4BB-E39D-4B57-B14A-91697AF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AF6E68-7AD4-4ACD-940D-1F1F1B7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7BD5A-4DDE-48C2-9503-402B8B54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EA3C6-227C-49A8-9735-C35B3590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1C255-05B6-47ED-9F77-A8F18F39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A63E-98BC-4DA9-9A70-D7D61B5C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1CDA8-11E5-4039-9D47-6A5024B2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87F87-BA1D-4E9B-8D8C-BAC917C6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7628C-D44E-42FC-83D5-7C1AA438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2AABD-2B43-4792-970C-9BB07D36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7D6DF-C516-4C26-8E2E-31598E74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4B639-FF3B-4952-9F12-28EF030D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AC48B-F3A5-44FE-859D-98FACFD6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0182F-ED6F-4F50-B4B5-0E6981EB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98C73-2873-4D19-8BF7-56F04CF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BCA8E-D70F-418A-A702-B04CC30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34B9-C142-4B12-A45B-1A7E216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19E19-779E-45E7-AAEB-F4A82E78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8E494-9830-4A55-93BF-B913D2C0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19C55-29C4-41EF-9C3A-49A40A71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74404-434D-46FC-93EA-435D27B9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B84C5-536E-4810-A1EA-D932C9B7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E7790-219F-4962-BB71-1627C2CB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4AD32-1099-4B77-8A72-11F40743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28245-8751-48EA-B27F-56F31CF9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FE95E-6709-4EE7-8577-BA6D7473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06957-4A8E-4BF3-8DFD-0E62F06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BD1-D196-4DF6-9AD4-43D48A3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1EF2-7906-496E-9F5F-ED42937C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B45B9-9527-4F2F-841A-1B2786ED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246B0-1C1A-4CC2-B2D3-5103F47E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621AA-5C11-44A1-8927-3E5CF204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DDCC8-079B-4865-8A8A-6813720D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B4482-FF01-4358-BED3-A67D42BA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44BFD8-7CA7-4B3F-A634-91A993E5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CED8A-149C-4F3E-989E-FE6A6B5C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D14406-26D2-40AA-AC07-D58DEDDF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F637D4-9F19-45F3-8B83-CD1B4289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A5D74-3DE1-45F5-913D-AEE05B3B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B78C-4B6D-43FB-88EA-05931436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DB680-9A23-4760-A088-1BC76C18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B3EB6-B0C3-483F-A377-1DA2A0A9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B7147-24FD-499F-9FCF-43B79917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D600B-AA63-4259-8F69-B2B4963B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B3582-20E5-466C-BFE1-063162A2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9631C-F171-4141-86BF-0444DFBB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A475A-7842-4E88-BE12-7B0AC560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A02FB-8FA9-4F40-97CB-59738C29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7F4A5E-1EBD-4AB9-874F-12C51744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A591C-9379-44A1-AFB2-4A9ECBDC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6589-6177-4ECF-8CEA-99DAFE0B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0BE8FF-5329-4B54-B31E-F10208B2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1F8FB-FC43-4BF3-8671-EE7F9752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1B363-2434-4F30-877A-32E021AF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F68E6-E586-459B-B77B-E7308A5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1C7E5-A0CC-4980-8EBC-9D7636B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9C8EB-F909-415A-9B52-D8D4653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AD614-7073-4B57-A1D0-C9AAAA9A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BD43E-D243-4E06-941B-0B48D22E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AA317-3199-4AFC-BE8D-3C2390A6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5D3DB1-26B2-4743-AB10-BA0E8818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36AD-432D-436C-AE20-E6206E86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4F310B-E6ED-4F56-871D-4F7FC7FF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0AF18-4DC5-4BCA-AB2F-99EB4236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553E3-E681-4F54-B7C3-9E09E62F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608635-CE33-4615-88F6-37B5B296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AB54D-C250-4C58-AF08-AA8092BD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A7515C-98BF-4260-B87A-500C4467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48341-8723-476F-BE6A-2DE92329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947EF-82C1-43B8-A42E-B3A0E855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0A5792-8A06-47DA-890B-EF5447E2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D49C9C-946D-4EF9-BABF-3E665D0A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CBCE-B621-4BEE-9EDA-22240972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8FCA11-A831-40DA-9027-E635736C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E299B-5CD9-4E82-8E30-D092ECA3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4ED47C-9DFB-4BA8-BDC0-5B514CC2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E5E7C-CD6F-45DD-A067-1F267B75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F11D2C-09E7-4104-B381-665EEAC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2EE48D-D787-46C3-886E-8AFA7CC0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F73BD2-9321-46F1-8BB6-7AB4E6B3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C5D67-C87B-4349-9400-5D9EDE91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0FB2B7-F81E-4BE6-BDB4-15E231FE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CF8CA-26EA-4A41-9A8F-62F71A33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5284-CAFA-4545-96D8-DB45418A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0A0B09-1988-45D8-AFDE-653DEBB8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806EA0-3A48-4526-BC08-CB101E1D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32914-B962-4F3A-ABD3-145D26AD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77B214-A5FD-410E-84E5-579367F5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6015C8-B331-4702-9ACE-8CCD8A0E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5D552A-7E87-476C-9B01-FE8AF28D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5757DB-58E0-4DB0-A8AB-644EDFFB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F5D3B2-9314-4E29-BD28-B9C5F1A3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C42F36-6BEE-4CC0-BC72-57FE463D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F46867-670E-4B0B-9DB7-40B5208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513E-7DC2-4338-8D5B-D9EEE2DB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FC2292-28AD-4018-BA26-C2195FBA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01DF0D-648C-490F-BCCF-DA9BA56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F8AC6-D200-4F12-9F40-2B029047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13CD58-20DC-4705-90BA-2F1F8D6F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641129-6E12-4A62-9689-5D7A704F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9E8D15-2549-41AC-8DB9-699544D7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1047F4-9BE5-4D1E-9EE1-D9A51D5A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B232A8-2FD0-4745-AC54-821076FD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A8A087-DD69-4A90-ADFE-BA14BE7E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059AE4-0B1B-4DDD-9F7C-CF99AA34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0A96-CA2A-4BE2-8E42-038CF59A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F6FFFF-D9F2-4FC6-A976-77899BBF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2D8DD8-BDB7-4B96-920A-9FFDBC9B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FC613A-3EE7-40E9-A06F-3FA90AB8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9F7FC9-8EC4-48F8-B0A6-0A625A7E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2A47F-DECB-4A75-AE7C-4090B97E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4FD27F-E665-48FE-A002-F1EA6C39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E978CB-CF3E-4490-98AE-8C5FC754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BF7C0C-4600-4CDB-B723-CAB08583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B0A537-169F-4994-B0DE-25EA9789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E0E7ED-3635-4DEF-9B87-025CD6B2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DA63-C7C8-4CB6-BBCF-ACAD72EE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55ABA4-9C7D-4682-9BF6-1DBE80D9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4992A1-FC4F-441B-825D-AC6A96FA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9EE066-143B-471A-883A-7E8CCFD8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5E762E-EA60-4DC0-9CE4-FCD3E750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B30CFD-3875-498B-8D3C-1FD80C85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3EEF69-BFFD-440A-88E6-92750A2A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361953-71DE-4EE4-A63D-37252A61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AC0119-6ED5-44A0-9453-522CC207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B03945-843C-49A0-B7BE-F2918824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074E6A-67C2-401B-AD3B-DB65EF5F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9A5D-8E48-4D83-8B33-B503EE6F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449B7A-ADE9-44B9-BC83-4ABFB006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1E88ED-07F2-4A0A-8320-CDF7ACFC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D8573A-26E9-4F33-A831-08503D5A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35F322-ECEA-4CE6-9317-D5DC5C74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5C297D-C2F8-4F2D-B099-DF4BF511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2C9582-4F4C-41E4-956C-5EACAD3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93736C-3820-4931-8E11-8CFE524A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72E2BD-635C-41F3-AC37-A4A881CA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A86941-69B1-4391-8E1F-FF6D6CCC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5FD1F2-664B-416B-9182-BB2335CF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666-90B7-4B80-A670-DA6EF4BA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F95C-544E-4951-802B-BC071BA6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F3AA77-52EA-4975-AAF9-75462D94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8DE3F5-3F0F-4EEB-80C3-BE8BB023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E9D5B9-3138-4F5E-B85A-E004C985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C83CF2-E684-4997-90A9-B733090A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CBC321-5C3B-4C66-A961-159BD028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3BA0D0-7F16-42A8-9BB2-31C365BE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FFF09A-B098-470B-8E99-A5CE8DE6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0E2E79-F41C-412C-ABCD-E0110BD8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23AACC-E985-4838-9786-2725D516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9B2798-E3B3-434D-8D57-5EC3086F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5E53-D0B6-4FBF-A728-DDFA7386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AA5E0A-C1B7-4D76-8918-0F36AE3B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F8589E-FF28-4FEF-AFC7-79AC80A1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C40FED-BDFD-4637-8A50-18693992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E47D-1E81-4DE9-8FF4-184B66F9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D5AD-4F66-44EE-96F3-09F88A7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8627-3908-4D74-861C-259A8ADC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B5A2-C72F-43A7-AEE1-CDFB0BDD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AF025-FDFF-47A6-A54A-C81E2371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A438-7EFA-4CEF-BE38-8959D856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3A69C-5301-462A-BDC3-0888BEA3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25176-5EFD-4BEF-AB5F-D52E283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489-D876-4C50-BD32-CA146A2D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F587D-F4F5-4C81-A072-F155787C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0089-2E97-4F4A-9AF8-C3D87782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67FB-8B5B-48DA-9E37-FF4A7640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1CFBC-2ACB-4892-9592-D5D06305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6A2F-11D8-48E1-A22E-BCFCF6A2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41A1-6306-48D6-8BD8-E15D56F8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3B34-A2F4-420F-90DA-2D64B30D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E0EA-144F-4D4F-9B54-E6B613B7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D392-E491-475D-97AB-221E6ACD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4600D-D221-4139-A267-A4DBA399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6E5-E584-46C4-B45B-FE5280B5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1E77C-D011-4AFD-A243-0C21BCA5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62D1B-FDB6-4E7A-95E1-2E516CD7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FAFA-7D31-4B50-B2D3-DAD3159C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1A825-0B14-4252-92D6-C175B57E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02BBC-F218-4C59-815F-7A607450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6CA6-22C0-4F1B-B690-30C60BC5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32C6-B0F8-4F5B-B768-4FB8FC0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C1084-3FDF-4086-BF8A-BB3B02B5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2F0DC-1563-4D5F-BE1E-2E054B6B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4771-9C2B-4F80-A7BD-A652ED73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066-C565-4FB8-AAC1-5699AF92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AD5C0-3BD0-47B2-887F-D9ADD85E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B4F60-7894-439E-B0DB-17ABAA12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F8647-3415-43EA-B2AB-D681908C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D20D9-E1B1-49D4-914E-9A4E7182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EF751-70AF-4676-8EC3-BF5B6C22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47502-43BC-409A-9281-FCE53622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A3C5C-DB36-42D1-B52E-C8110659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145B9-4120-4B04-AD9F-16FCB3B3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302FD-D07F-4E71-ABF4-FE3694F2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5C6C4-A4B7-4055-8812-476A90B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93D-FAEB-4DDD-A174-98AD5D62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BD8FD-2C50-4CCD-AF1A-AA596FA0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68C50-A67E-47EE-8995-FAD02307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3C11E-7621-4A81-8403-5A8400A4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90DC6-16B1-483D-ABC4-EE409A93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18299-337E-4C17-9D2F-9DC9BFE4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91046-C363-4214-BB51-B28DB1F1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744BC-7BDC-4303-B912-0E6DDDC4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F3EB4-9C50-442E-9389-269B8BDE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FEE3D-390D-45A0-A2C5-0B8A326C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B3FCD-724B-4177-B213-0DDF829C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818-D4B4-4C8A-9C4F-7D5D862C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C5A57-AE35-4513-B0E3-ED7B353A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50356-220E-4B8B-9B1C-62FEB34E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B8E72-50BD-484C-A99D-AFD9989A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6A91F-D74F-4D3F-8620-D4CF9833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18D09-D846-43E1-82FD-BAA51AB2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FCF05-1E54-4BDC-928B-2B610482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D0C96-71D9-4E91-B3D0-CBC80F3F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73B2B-DB2B-4883-B93D-A377B140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DAC9-3411-47EB-9983-A9BAA696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64D46-2D21-4B28-8796-E8F1F32B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51B-20AD-4E63-BA25-DC120F66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4DB29-ED66-4BAE-AA13-A7D018BA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FB6EE-2D03-46B0-B7AE-66CFE82D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3AF04-58A3-4AA8-BCF7-6C515EA0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D7D4D-7D5B-41B5-BC2F-BD531126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B02A2-30D9-414B-9BAC-4F1D769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9297-E4E9-44FC-9CA0-7D3F3E6B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3A485-64A0-4E7B-BAE7-C35FAD9A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8295B-06E0-4C3A-9909-E7670F06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F1A7D-8AD9-443B-B1E7-03179E30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735CD-6B6D-4BB1-BCFB-0AC10F30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BAAF-3EEA-419A-B8C0-9E238D45B40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AAE6-A9E4-4CF2-9F6B-964FB6C18CD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66C0-CF71-455C-9D1D-9DFF4BFBDC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B51D-B03D-4030-BF25-356298B9DC3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4ACB-904B-4C53-A164-23E705CEFF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5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8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6B7F-09B5-4D75-8982-158E879138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8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8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C969-EDE9-4197-AB2B-A312A8536E3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3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3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8E86-336A-4991-B937-551D0FD65F2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A19C-5A85-40D8-B3C1-7D3095436C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2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3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3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C1A6-8FC1-43F0-8BE2-0375E7D8C9A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7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8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8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0C55-AC90-4499-BBF9-10D8215DCDF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C39D-F856-4CDA-A9C6-4547908C304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2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3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3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21C4-D5A5-4409-81BD-CEAF0EED49A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DCFD-BF20-41A0-B30D-0C976E0E9A3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2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5574-7EE0-4578-83EE-441CCC67FB3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7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240F-1195-494E-8EB4-FE72C7650E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2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2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17CD-2B4F-465B-8970-E54A7727451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4BF4-7F20-4375-BF92-2E0C5678969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1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2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2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7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7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7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87C8-D34C-48C0-9EA8-2187D3BED5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6E6E-A7FD-477B-B374-E3E94BAE7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A849-E8FE-440A-9759-CFDADEA148C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72AE-5944-4EFA-AB53-09DFD16C5D6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4D8-CCBB-4E4B-B550-3570C83AE5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45F-6B81-4DBB-82F1-EF6CF12BCA3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F01A-501F-4EC9-8936-AAC5CB89577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BC4E-F9D3-4310-8D6B-9312CF833D4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9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Прямоугольник 1"/>
          <p:cNvSpPr/>
          <p:nvPr/>
        </p:nvSpPr>
        <p:spPr>
          <a:xfrm>
            <a:off x="755640" y="1197000"/>
            <a:ext cx="7345440" cy="27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6fc6"/>
                </a:solidFill>
                <a:latin typeface="Calibri"/>
                <a:ea typeface="Calibri"/>
              </a:rPr>
              <a:t>Пусть каждый день и кажд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6fc6"/>
                </a:solidFill>
                <a:latin typeface="Calibri"/>
                <a:ea typeface="Calibri"/>
              </a:rPr>
              <a:t>Вам новое добу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6fc6"/>
                </a:solidFill>
                <a:latin typeface="Calibri"/>
                <a:ea typeface="Calibri"/>
              </a:rPr>
              <a:t>Пусть добрым будет ум у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6fc6"/>
                </a:solidFill>
                <a:latin typeface="Calibri"/>
                <a:ea typeface="Calibri"/>
              </a:rPr>
              <a:t>А сердце умным будет. (С.Марша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Прямоугольник 1"/>
          <p:cNvSpPr/>
          <p:nvPr/>
        </p:nvSpPr>
        <p:spPr>
          <a:xfrm>
            <a:off x="1692360" y="4005360"/>
            <a:ext cx="705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Урок разработали  учителя  математики МАОУ СОШ№5 имени Г.И.Щедрина г.Туапс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лова Галина Петро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конова Шариет Саид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хо Зинаида Хамед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ок математики  в 5 классе по тем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ужность и круг»      (Виленкин Н.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03" name="Picture 2" descr="C:\Users\VIT03\Desktop\арена цирка\drum-circle.jpg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05" name="Picture 2" descr="C:\Users\VIT03\Desktop\арена цирка\iCA6JKV64.jpg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07" name="Picture 2" descr="F:\3455_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F:\3455_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457200" y="3141360"/>
            <a:ext cx="822960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nstantia"/>
              </a:rPr>
              <a:t>Задание №1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1" name="Рисунок 1" descr="http://festival.1september.ru/articles/568151/img4.jpg"/>
          <p:cNvPicPr/>
          <p:nvPr/>
        </p:nvPicPr>
        <p:blipFill>
          <a:blip r:embed="rId1"/>
          <a:stretch/>
        </p:blipFill>
        <p:spPr>
          <a:xfrm>
            <a:off x="108000" y="1052640"/>
            <a:ext cx="892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539640" y="27813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nstantia"/>
              </a:rPr>
              <a:t>Задание №2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4" name="Рисунок 1" descr="http://festival.1september.ru/articles/568151/img5.jpg"/>
          <p:cNvPicPr/>
          <p:nvPr/>
        </p:nvPicPr>
        <p:blipFill>
          <a:blip r:embed="rId1"/>
          <a:stretch/>
        </p:blipFill>
        <p:spPr>
          <a:xfrm>
            <a:off x="900000" y="1125360"/>
            <a:ext cx="7704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457200" y="2060640"/>
            <a:ext cx="2890800" cy="42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Задание №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7" name="Объект 4" descr="http://5klass.net/datas/geometrija/Okruzhnost-krug-5-klass/0005-005-Krug.jpg"/>
          <p:cNvPicPr/>
          <p:nvPr/>
        </p:nvPicPr>
        <p:blipFill>
          <a:blip r:embed="rId1"/>
          <a:stretch/>
        </p:blipFill>
        <p:spPr>
          <a:xfrm>
            <a:off x="3786120" y="1989000"/>
            <a:ext cx="5033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Рисунок 1" descr="http://5klass.net/datas/geometrija/Okruzhnost-krug-5-klass/0002-002-Okruzhnost-krug-5-klass.jpg"/>
          <p:cNvPicPr/>
          <p:nvPr/>
        </p:nvPicPr>
        <p:blipFill>
          <a:blip r:embed="rId1"/>
          <a:stretch/>
        </p:blipFill>
        <p:spPr>
          <a:xfrm>
            <a:off x="611280" y="1197000"/>
            <a:ext cx="7993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nstantia"/>
              </a:rPr>
              <a:t>Задание №4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см.Приложение №1, флеш-роли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Прямоугольник 1" descr=""/>
          <p:cNvPicPr/>
          <p:nvPr/>
        </p:nvPicPr>
        <p:blipFill>
          <a:blip r:embed="rId1"/>
          <a:stretch/>
        </p:blipFill>
        <p:spPr>
          <a:xfrm>
            <a:off x="2425680" y="30240"/>
            <a:ext cx="4475160" cy="107316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15" descr="aluno03"/>
          <p:cNvPicPr/>
          <p:nvPr/>
        </p:nvPicPr>
        <p:blipFill>
          <a:blip r:embed="rId2"/>
          <a:stretch/>
        </p:blipFill>
        <p:spPr>
          <a:xfrm>
            <a:off x="2071800" y="3571920"/>
            <a:ext cx="10033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270" name="Group 238"/>
          <p:cNvGrpSpPr/>
          <p:nvPr/>
        </p:nvGrpSpPr>
        <p:grpSpPr>
          <a:xfrm>
            <a:off x="-29160" y="5212080"/>
            <a:ext cx="9869040" cy="1053360"/>
            <a:chOff x="-29160" y="5212080"/>
            <a:chExt cx="9869040" cy="1053360"/>
          </a:xfrm>
        </p:grpSpPr>
        <p:sp>
          <p:nvSpPr>
            <p:cNvPr id="1271" name="Rectangle 239"/>
            <p:cNvSpPr/>
            <p:nvPr/>
          </p:nvSpPr>
          <p:spPr>
            <a:xfrm rot="21490800">
              <a:off x="-360" y="5368320"/>
              <a:ext cx="9812160" cy="740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240"/>
            <p:cNvSpPr/>
            <p:nvPr/>
          </p:nvSpPr>
          <p:spPr>
            <a:xfrm flipV="1">
              <a:off x="-29160" y="5496480"/>
              <a:ext cx="9869040" cy="4647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3" name="Picture 28" descr="Рисунок25"/>
          <p:cNvPicPr/>
          <p:nvPr/>
        </p:nvPicPr>
        <p:blipFill>
          <a:blip r:embed="rId3"/>
          <a:stretch/>
        </p:blipFill>
        <p:spPr>
          <a:xfrm>
            <a:off x="7164360" y="3602160"/>
            <a:ext cx="2398680" cy="205560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28" descr="Рисунок25"/>
          <p:cNvPicPr/>
          <p:nvPr/>
        </p:nvPicPr>
        <p:blipFill>
          <a:blip r:embed="rId4"/>
          <a:stretch/>
        </p:blipFill>
        <p:spPr>
          <a:xfrm>
            <a:off x="-252360" y="3860640"/>
            <a:ext cx="2398680" cy="205596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9" descr="D:\презентации в документе\Картинки-клипы\school10-01[1].gif"/>
          <p:cNvPicPr/>
          <p:nvPr/>
        </p:nvPicPr>
        <p:blipFill>
          <a:blip r:embed="rId5"/>
          <a:stretch/>
        </p:blipFill>
        <p:spPr>
          <a:xfrm>
            <a:off x="5572080" y="2408400"/>
            <a:ext cx="1714680" cy="1688760"/>
          </a:xfrm>
          <a:prstGeom prst="rect">
            <a:avLst/>
          </a:prstGeom>
          <a:ln w="0">
            <a:noFill/>
          </a:ln>
        </p:spPr>
      </p:pic>
      <p:sp>
        <p:nvSpPr>
          <p:cNvPr id="1276" name="Выноска-облако 11"/>
          <p:cNvSpPr/>
          <p:nvPr/>
        </p:nvSpPr>
        <p:spPr>
          <a:xfrm flipH="1">
            <a:off x="179280" y="830160"/>
            <a:ext cx="871560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UI"/>
              </a:rPr>
              <a:t>Мальчик решил сосчитать, сколько шагов он сделает, пройдя от одного угла дома до другого. Он сделал всего 70 шагов. Сколько шагов он сделал правой ногой? Левой ног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54358 1.11111E-006 E">
                                      <p:cBhvr>
                                        <p:cTn id="6" dur="5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Calibri"/>
              </a:rPr>
              <a:t>ЦИРКУЛЬ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иркуль мой, циркач лихой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ит круг одной ного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другой проткнул бумагу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цепился – и ни шаг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6697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Физкультминутка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см. Приложение №2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6697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Задание из учебника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тр.134-135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№ 850,    №85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655164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3495c"/>
                </a:solidFill>
                <a:latin typeface="Arial"/>
                <a:ea typeface="Arial"/>
              </a:rPr>
              <a:t>Самостоятельная рабо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Начертите окружность. Отметьте по 3 точки, принадлежащ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 окруж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 круг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) внешней части круг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Начертите окружнось радиусом 6 см с центром в    точке О. Отметьте точки А, В, С, Д, Е, так, чтобы  ОА = 8 см, ОВ=6 см, ОС=4 см, ОД=9 см, ОЕ= 10 с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чертите квадрат. Начертите 4 окружности так, чтобы стороны квадрата были их диаметр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Упражнения на внимани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684360" y="1844640"/>
            <a:ext cx="1800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исунок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2843280" y="1844640"/>
            <a:ext cx="1728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исунок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4932360" y="1844640"/>
            <a:ext cx="2016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исунок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33" name="Picture 4" descr=""/>
          <p:cNvPicPr/>
          <p:nvPr/>
        </p:nvPicPr>
        <p:blipFill>
          <a:blip r:embed="rId1"/>
          <a:srcRect l="34625" t="28120" r="42332" b="20625"/>
          <a:stretch/>
        </p:blipFill>
        <p:spPr>
          <a:xfrm>
            <a:off x="0" y="2565360"/>
            <a:ext cx="1368360" cy="224964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8" descr=""/>
          <p:cNvPicPr/>
          <p:nvPr/>
        </p:nvPicPr>
        <p:blipFill>
          <a:blip r:embed="rId2"/>
          <a:srcRect l="34721" t="28120" r="44166" b="28327"/>
          <a:stretch/>
        </p:blipFill>
        <p:spPr>
          <a:xfrm>
            <a:off x="2987640" y="2421000"/>
            <a:ext cx="1444680" cy="22320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9" descr=""/>
          <p:cNvPicPr/>
          <p:nvPr/>
        </p:nvPicPr>
        <p:blipFill>
          <a:blip r:embed="rId3"/>
          <a:srcRect l="34618" t="33248" r="46089" b="38691"/>
          <a:stretch/>
        </p:blipFill>
        <p:spPr>
          <a:xfrm>
            <a:off x="5219640" y="2781360"/>
            <a:ext cx="1751040" cy="1895400"/>
          </a:xfrm>
          <a:prstGeom prst="rect">
            <a:avLst/>
          </a:prstGeom>
          <a:ln w="0">
            <a:noFill/>
          </a:ln>
        </p:spPr>
      </p:pic>
      <p:sp>
        <p:nvSpPr>
          <p:cNvPr id="1336" name="Rectangle 10"/>
          <p:cNvSpPr/>
          <p:nvPr/>
        </p:nvSpPr>
        <p:spPr>
          <a:xfrm>
            <a:off x="7128000" y="1773360"/>
            <a:ext cx="20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исунок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7" name="Picture 11" descr=""/>
          <p:cNvPicPr/>
          <p:nvPr/>
        </p:nvPicPr>
        <p:blipFill>
          <a:blip r:embed="rId4"/>
          <a:srcRect l="32698" t="35812" r="46089" b="36033"/>
          <a:stretch/>
        </p:blipFill>
        <p:spPr>
          <a:xfrm>
            <a:off x="7308720" y="3068640"/>
            <a:ext cx="1584360" cy="1571760"/>
          </a:xfrm>
          <a:prstGeom prst="rect">
            <a:avLst/>
          </a:prstGeom>
          <a:ln w="0">
            <a:noFill/>
          </a:ln>
        </p:spPr>
      </p:pic>
      <p:sp>
        <p:nvSpPr>
          <p:cNvPr id="1338" name="Rectangle 13"/>
          <p:cNvSpPr/>
          <p:nvPr/>
        </p:nvSpPr>
        <p:spPr>
          <a:xfrm>
            <a:off x="900000" y="5157720"/>
            <a:ext cx="770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ъясните, чем похожи и чем отличаются рис. 1 и 2; 2 и 3; 3 и 4; 1 и 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6697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.22 Стр.133-134   № 875,    №883 а)                                Творческое задание: Из круга вырезать снежин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6697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42" name="Содержимое 3" descr="221058_70055-700x500 (1)"/>
          <p:cNvPicPr/>
          <p:nvPr/>
        </p:nvPicPr>
        <p:blipFill>
          <a:blip r:embed="rId1"/>
          <a:stretch/>
        </p:blipFill>
        <p:spPr>
          <a:xfrm>
            <a:off x="4429080" y="2286000"/>
            <a:ext cx="660600" cy="739800"/>
          </a:xfrm>
          <a:prstGeom prst="rect">
            <a:avLst/>
          </a:prstGeom>
          <a:ln w="0">
            <a:noFill/>
          </a:ln>
        </p:spPr>
      </p:pic>
      <p:pic>
        <p:nvPicPr>
          <p:cNvPr id="1343" name="Рисунок 5" descr="1420_poll_lena_tretyakowa"/>
          <p:cNvPicPr/>
          <p:nvPr/>
        </p:nvPicPr>
        <p:blipFill>
          <a:blip r:embed="rId2"/>
          <a:stretch/>
        </p:blipFill>
        <p:spPr>
          <a:xfrm>
            <a:off x="1785960" y="20718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1344" name="Рисунок 6" descr="x_56e7386e"/>
          <p:cNvPicPr/>
          <p:nvPr/>
        </p:nvPicPr>
        <p:blipFill>
          <a:blip r:embed="rId3"/>
          <a:stretch/>
        </p:blipFill>
        <p:spPr>
          <a:xfrm>
            <a:off x="3071880" y="2714760"/>
            <a:ext cx="76356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иды линий изображены 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е 1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е 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0" name="Объект 6" descr="http://festival.1september.ru/articles/568151/img1.gif"/>
          <p:cNvPicPr/>
          <p:nvPr/>
        </p:nvPicPr>
        <p:blipFill>
          <a:blip r:embed="rId1"/>
          <a:stretch/>
        </p:blipFill>
        <p:spPr>
          <a:xfrm>
            <a:off x="468360" y="3141720"/>
            <a:ext cx="3598920" cy="2609640"/>
          </a:xfrm>
          <a:prstGeom prst="rect">
            <a:avLst/>
          </a:prstGeom>
          <a:ln w="0">
            <a:noFill/>
          </a:ln>
        </p:spPr>
      </p:pic>
      <p:pic>
        <p:nvPicPr>
          <p:cNvPr id="1281" name="Объект 7" descr="http://festival.1september.ru/articles/568151/img2.gif"/>
          <p:cNvPicPr/>
          <p:nvPr/>
        </p:nvPicPr>
        <p:blipFill>
          <a:blip r:embed="rId2"/>
          <a:stretch/>
        </p:blipFill>
        <p:spPr>
          <a:xfrm>
            <a:off x="4788000" y="3141720"/>
            <a:ext cx="352908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Заголовок 1" descr=""/>
          <p:cNvPicPr/>
          <p:nvPr/>
        </p:nvPicPr>
        <p:blipFill>
          <a:blip r:embed="rId1"/>
          <a:stretch/>
        </p:blipFill>
        <p:spPr>
          <a:xfrm>
            <a:off x="407880" y="-817560"/>
            <a:ext cx="783432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Прямоугольник 1" descr=""/>
          <p:cNvPicPr/>
          <p:nvPr/>
        </p:nvPicPr>
        <p:blipFill>
          <a:blip r:embed="rId1"/>
          <a:stretch/>
        </p:blipFill>
        <p:spPr>
          <a:xfrm>
            <a:off x="2846520" y="133200"/>
            <a:ext cx="5048280" cy="860400"/>
          </a:xfrm>
          <a:prstGeom prst="rect">
            <a:avLst/>
          </a:prstGeom>
          <a:ln w="0">
            <a:noFill/>
          </a:ln>
        </p:spPr>
      </p:pic>
      <p:sp>
        <p:nvSpPr>
          <p:cNvPr id="1284" name="Прямоугольник 2"/>
          <p:cNvSpPr/>
          <p:nvPr/>
        </p:nvSpPr>
        <p:spPr>
          <a:xfrm>
            <a:off x="214200" y="928800"/>
            <a:ext cx="4572000" cy="1496160"/>
          </a:xfrm>
          <a:prstGeom prst="rect">
            <a:avLst/>
          </a:prstGeom>
          <a:solidFill>
            <a:srgbClr val="c9da92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разите в миллиметр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) 3 см 2 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) 1 дм 5 см 3 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) 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4" descr=""/>
          <p:cNvPicPr/>
          <p:nvPr/>
        </p:nvPicPr>
        <p:blipFill>
          <a:blip r:embed="rId2"/>
          <a:stretch/>
        </p:blipFill>
        <p:spPr>
          <a:xfrm>
            <a:off x="3743280" y="1328760"/>
            <a:ext cx="5516640" cy="633240"/>
          </a:xfrm>
          <a:prstGeom prst="rect">
            <a:avLst/>
          </a:prstGeom>
          <a:ln w="0">
            <a:noFill/>
          </a:ln>
        </p:spPr>
      </p:pic>
      <p:pic>
        <p:nvPicPr>
          <p:cNvPr id="1286" name="Picture 5" descr=""/>
          <p:cNvPicPr/>
          <p:nvPr/>
        </p:nvPicPr>
        <p:blipFill>
          <a:blip r:embed="rId3"/>
          <a:stretch/>
        </p:blipFill>
        <p:spPr>
          <a:xfrm>
            <a:off x="3743280" y="1901880"/>
            <a:ext cx="5437080" cy="628560"/>
          </a:xfrm>
          <a:prstGeom prst="rect">
            <a:avLst/>
          </a:prstGeom>
          <a:ln w="0">
            <a:noFill/>
          </a:ln>
        </p:spPr>
      </p:pic>
      <p:pic>
        <p:nvPicPr>
          <p:cNvPr id="1287" name="Picture 6" descr=""/>
          <p:cNvPicPr/>
          <p:nvPr/>
        </p:nvPicPr>
        <p:blipFill>
          <a:blip r:embed="rId4"/>
          <a:stretch/>
        </p:blipFill>
        <p:spPr>
          <a:xfrm>
            <a:off x="3743280" y="2475000"/>
            <a:ext cx="2700360" cy="585720"/>
          </a:xfrm>
          <a:prstGeom prst="rect">
            <a:avLst/>
          </a:prstGeom>
          <a:ln w="0">
            <a:noFill/>
          </a:ln>
        </p:spPr>
      </p:pic>
      <p:sp>
        <p:nvSpPr>
          <p:cNvPr id="1288" name="Прямоугольник 6"/>
          <p:cNvSpPr/>
          <p:nvPr/>
        </p:nvSpPr>
        <p:spPr>
          <a:xfrm>
            <a:off x="285840" y="3571920"/>
            <a:ext cx="4572000" cy="1465560"/>
          </a:xfrm>
          <a:prstGeom prst="rect">
            <a:avLst/>
          </a:prstGeom>
          <a:solidFill>
            <a:srgbClr val="c9da92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разите в метр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) 3 км З00 м; 6),2 км 2 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) 5 км 2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7" descr=""/>
          <p:cNvPicPr/>
          <p:nvPr/>
        </p:nvPicPr>
        <p:blipFill>
          <a:blip r:embed="rId5"/>
          <a:stretch/>
        </p:blipFill>
        <p:spPr>
          <a:xfrm>
            <a:off x="3029040" y="5114880"/>
            <a:ext cx="5273640" cy="1451160"/>
          </a:xfrm>
          <a:prstGeom prst="rect">
            <a:avLst/>
          </a:prstGeom>
          <a:ln w="0">
            <a:noFill/>
          </a:ln>
        </p:spPr>
      </p:pic>
      <p:sp>
        <p:nvSpPr>
          <p:cNvPr id="1290" name="TextBox 8"/>
          <p:cNvSpPr/>
          <p:nvPr/>
        </p:nvSpPr>
        <p:spPr>
          <a:xfrm>
            <a:off x="5965560" y="464328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egoe UI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9"/>
          <p:cNvSpPr/>
          <p:nvPr/>
        </p:nvSpPr>
        <p:spPr>
          <a:xfrm>
            <a:off x="6394320" y="9288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egoe UI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2" name="Picture 9" descr="D:\презентации в документе\Картинки-клипы\school10-01[1].gif"/>
          <p:cNvPicPr/>
          <p:nvPr/>
        </p:nvPicPr>
        <p:blipFill>
          <a:blip r:embed="rId6"/>
          <a:stretch/>
        </p:blipFill>
        <p:spPr>
          <a:xfrm>
            <a:off x="7215120" y="3143160"/>
            <a:ext cx="1714680" cy="168912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2" descr="D:\презентации в документе\Картинки-клипы\school02-31[1].gif"/>
          <p:cNvPicPr/>
          <p:nvPr/>
        </p:nvPicPr>
        <p:blipFill>
          <a:blip r:embed="rId7"/>
          <a:stretch/>
        </p:blipFill>
        <p:spPr>
          <a:xfrm>
            <a:off x="285840" y="5214960"/>
            <a:ext cx="1566720" cy="137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Rectangle 2" descr=""/>
          <p:cNvPicPr/>
          <p:nvPr/>
        </p:nvPicPr>
        <p:blipFill>
          <a:blip r:embed="rId1"/>
          <a:stretch/>
        </p:blipFill>
        <p:spPr>
          <a:xfrm>
            <a:off x="1116000" y="622440"/>
            <a:ext cx="7772400" cy="2438280"/>
          </a:xfrm>
          <a:prstGeom prst="rect">
            <a:avLst/>
          </a:prstGeom>
          <a:ln w="0">
            <a:noFill/>
          </a:ln>
        </p:spPr>
      </p:pic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826920" y="3141720"/>
            <a:ext cx="74901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кружность и круг всегда присутствовали в жизни человека, облегчая ее: гончарный круг, колесо. А у многих народов окружность была символом солнца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12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01" name="Picture 2" descr="C:\Users\VIT03\Desktop\арена цирка\20090813-soblaznfilm8.jpg"/>
          <p:cNvPicPr/>
          <p:nvPr/>
        </p:nvPicPr>
        <p:blipFill>
          <a:blip r:embed="rId1"/>
          <a:stretch/>
        </p:blipFill>
        <p:spPr>
          <a:xfrm>
            <a:off x="1282680" y="1935000"/>
            <a:ext cx="6578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10:32:54Z</dcterms:created>
  <dc:creator>VIT03</dc:creator>
  <dc:description/>
  <dc:language>en-US</dc:language>
  <cp:lastModifiedBy>наталья</cp:lastModifiedBy>
  <dcterms:modified xsi:type="dcterms:W3CDTF">2013-12-02T07:39:41Z</dcterms:modified>
  <cp:revision>30</cp:revision>
  <dc:subject/>
  <dc:title>Окружность, круг.</dc:title>
</cp:coreProperties>
</file>